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CA8-5497-4CF8-88B6-7964B223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B81F-9DA6-4042-B1E5-B04F66D0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F88-F893-4468-BD0B-7E036882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C3A-E957-40ED-8009-386ABDC2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18B5-46D8-4620-94AD-465DF9B4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C83-98B0-41A2-BC9C-A21830F1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D2C-084B-486E-A0F1-13B4DCB0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97BE-FD03-4F36-B3F7-7C89CED2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DB0-3418-453F-A3DA-80FE1591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46D-ACB8-428F-9FAE-B988063A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5E8-A4D7-43F8-9CC6-12D3A4CB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93E-BB37-4D36-8C7B-5A7E5B0A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53C0-1C16-4AD9-841D-03C9BF3A1D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youtube.com/watch?v=9n3hThfp0TI" TargetMode="External"/><Relationship Id="rId4" Type="http://schemas.openxmlformats.org/officeDocument/2006/relationships/hyperlink" Target="http://www.youtube.com/watch?v=9n3hThfp0TI" TargetMode="External"/><Relationship Id="rId5" Type="http://schemas.openxmlformats.org/officeDocument/2006/relationships/hyperlink" Target="http://www.youtube.com/watch?v=9n3hThfp0TI" TargetMode="External"/><Relationship Id="rId6" Type="http://schemas.openxmlformats.org/officeDocument/2006/relationships/hyperlink" Target="http://images.yandex.ru/yandsearch?text=&#1073;&#1072;&#1073;&#1086;&#1095;&#1082;&#1072;%20&#1089;%20&#1087;&#1088;&#1086;&#1079;&#1088;&#1072;&#1095;&#1085;&#1099;&#1084;&#1080;%20&#1082;&#1088;&#1099;&#1083;&#1100;&#1103;&#1084;&#1080;&amp;stype=image&amp;lr=55&amp;noreask=1" TargetMode="External"/><Relationship Id="rId7" Type="http://schemas.openxmlformats.org/officeDocument/2006/relationships/hyperlink" Target="http://images.yandex.ru/yandsearch?text=&#1073;&#1072;&#1073;&#1086;&#1095;&#1082;&#1072;%20&#1089;%20&#1087;&#1088;&#1086;&#1079;&#1088;&#1072;&#1095;&#1085;&#1099;&#1084;&#1080;%20&#1082;&#1088;&#1099;&#1083;&#1100;&#1103;&#1084;&#1080;&amp;stype=image&amp;lr=55&amp;noreask=1" TargetMode="External"/><Relationship Id="rId8" Type="http://schemas.openxmlformats.org/officeDocument/2006/relationships/hyperlink" Target="http://images.yandex.ru/yandsearch?text=&#1073;&#1072;&#1073;&#1086;&#1095;&#1082;&#1072;%20&#1089;%20&#1087;&#1088;&#1086;&#1079;&#1088;&#1072;&#1095;&#1085;&#1099;&#1084;&#1080;%20&#1082;&#1088;&#1099;&#1083;&#1100;&#1103;&#1084;&#1080;&amp;stype=image&amp;lr=55&amp;noreask=1" TargetMode="External"/><Relationship Id="rId9" Type="http://schemas.openxmlformats.org/officeDocument/2006/relationships/hyperlink" Target="http://images.yandex.ru/yandsearch?text=&#1073;&#1072;&#1073;&#1086;&#1095;&#1082;&#1072;%20&#1089;%20&#1087;&#1088;&#1086;&#1079;&#1088;&#1072;&#1095;&#1085;&#1099;&#1084;&#1080;%20&#1082;&#1088;&#1099;&#1083;&#1100;&#1103;&#1084;&#1080;&amp;stype=image&amp;lr=55&amp;noreask=1" TargetMode="External"/><Relationship Id="rId10" Type="http://schemas.openxmlformats.org/officeDocument/2006/relationships/hyperlink" Target="http://images.yandex.ru/yandsearch?text=&#1073;&#1072;&#1073;&#1086;&#1095;&#1082;&#1072;%20&#1089;%20&#1087;&#1088;&#1086;&#1079;&#1088;&#1072;&#1095;&#1085;&#1099;&#1084;&#1080;%20&#1082;&#1088;&#1099;&#1083;&#1100;&#1103;&#1084;&#1080;&amp;stype=image&amp;lr=55&amp;noreask=1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Medium Cond"/>
              </a:rPr>
              <a:t>Бывают ли на свете чудес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2840" cy="1212840"/>
          </a:xfrm>
          <a:prstGeom prst="rect">
            <a:avLst/>
          </a:prstGeom>
          <a:ln w="0">
            <a:noFill/>
          </a:ln>
        </p:spPr>
      </p:pic>
      <p:sp>
        <p:nvSpPr>
          <p:cNvPr id="44" name="Заголовок 1"/>
          <p:cNvSpPr/>
          <p:nvPr/>
        </p:nvSpPr>
        <p:spPr>
          <a:xfrm>
            <a:off x="71424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Franklin Gothic Medium Cond"/>
              </a:rPr>
              <a:t>Бывают ли на свете чудес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К «Начальная школ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X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итать – вдумчив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исать – грамотн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лушать – внимательн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оворить – внятно, доступно;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2840" cy="1212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Правила работы на уро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6c93050dbb8b3df75acdff6d5c3d78fc"/>
          <p:cNvPicPr/>
          <p:nvPr/>
        </p:nvPicPr>
        <p:blipFill>
          <a:blip r:embed="rId1"/>
          <a:srcRect l="43651" t="45016" r="48260" b="413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Скругленный прямоугольник 8"/>
          <p:cNvSpPr/>
          <p:nvPr/>
        </p:nvSpPr>
        <p:spPr>
          <a:xfrm>
            <a:off x="179280" y="189000"/>
            <a:ext cx="8001000" cy="55004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Documents and Settings\HomePC\Рабочий стол\опыты\c257bad89bf6c828f852cf9b3f7ebe38.jpg"/>
          <p:cNvPicPr/>
          <p:nvPr/>
        </p:nvPicPr>
        <p:blipFill>
          <a:blip r:embed="rId2"/>
          <a:srcRect l="7063" t="491" r="8981" b="9995"/>
          <a:stretch/>
        </p:blipFill>
        <p:spPr>
          <a:xfrm>
            <a:off x="500040" y="714240"/>
            <a:ext cx="2500200" cy="15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Прямоугольник 10"/>
          <p:cNvSpPr/>
          <p:nvPr/>
        </p:nvSpPr>
        <p:spPr>
          <a:xfrm>
            <a:off x="3143160" y="500040"/>
            <a:ext cx="4500720" cy="492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6228"/>
                </a:solidFill>
                <a:latin typeface="Calibri"/>
              </a:rPr>
              <a:t>Удивительная бабочка с прозрачными, словно сделанными из тончайшего стекла крыльями, известна как </a:t>
            </a: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Грета Ото</a:t>
            </a:r>
            <a:r>
              <a:rPr b="0" lang="ru-RU" sz="1400" spc="-1" strike="noStrike">
                <a:solidFill>
                  <a:srgbClr val="4f6228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6228"/>
                </a:solidFill>
                <a:latin typeface="Calibri"/>
              </a:rPr>
              <a:t>Этот вид бабочек, из семейства Нимфалид, широко распространен во влажных лесах Амазонки. Размах крыльев у бабочки от 5,5 до 6 см. Ткань между венами, на крыльях у бабочки, прозрачна. Это вызвано нехваткой цветных чешуе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6228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6228"/>
                </a:solidFill>
                <a:latin typeface="Calibri"/>
              </a:rPr>
              <a:t>Бабочки откладываю яйца на растения рода Цеструм, которыми потом будет питаться красно или пурпурно полосатая гусеница, набирая в ткани ядовитые алкалоиды. В будущем взрослая бабочка станет противной на вкус для хищников. Взрослые бабочки употребляют в пищу нектар разных сортов раст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6228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6228"/>
                </a:solidFill>
                <a:latin typeface="Calibri"/>
              </a:rPr>
              <a:t>Эти бабочки обитают лишь в тех местах, где идеальное состояние окружающей среды. </a:t>
            </a: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Гибель этого вида в тех или иных местах предупреждает об экологических изменен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500040" y="2428920"/>
            <a:ext cx="2500200" cy="16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8" descr="G:\owl_reading_rocking_hg_clr.gif"/>
          <p:cNvPicPr/>
          <p:nvPr/>
        </p:nvPicPr>
        <p:blipFill>
          <a:blip r:embed="rId4"/>
          <a:stretch/>
        </p:blipFill>
        <p:spPr>
          <a:xfrm>
            <a:off x="7405560" y="0"/>
            <a:ext cx="145260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овори так, чтобы тебя все понимал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нимательно слушай и понимай други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мей договариваться и уступа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 распределяй обязан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Хорошо выполняй свою часть работы и помогай друг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2840" cy="12128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Arial"/>
                <a:ea typeface="Arial"/>
              </a:rPr>
              <a:t>Правила работы в группе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2840" cy="1212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571320"/>
            <a:ext cx="8569080" cy="55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Book Antiqua"/>
              </a:rPr>
              <a:t>Пусть и в вашей жизни всегда будет место для ЧУДА!</a:t>
            </a:r>
            <a:br>
              <a:rPr sz="6600"/>
            </a:br>
            <a:r>
              <a:rPr b="1" i="1" lang="en-US" sz="6600" spc="-1" strike="noStrike">
                <a:solidFill>
                  <a:srgbClr val="ffffff"/>
                </a:solidFill>
                <a:latin typeface="Franklin Gothic Medium Cond"/>
              </a:rPr>
              <a:t>Спасибо за внимание!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2840" cy="12128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Franklin Gothic Medium Cond"/>
              </a:rPr>
              <a:t>Видео «Чудеса природы» </a:t>
            </a:r>
            <a:r>
              <a:rPr b="0" lang="en-US" sz="3100" spc="-1" strike="noStrike" u="sng">
                <a:solidFill>
                  <a:srgbClr val="009999"/>
                </a:solidFill>
                <a:uFillTx/>
                <a:latin typeface="Franklin Gothic Medium Cond"/>
                <a:hlinkClick r:id="rId3"/>
              </a:rPr>
              <a:t>http://</a:t>
            </a:r>
            <a:r>
              <a:rPr b="0" lang="en-US" sz="3100" spc="-1" strike="noStrike" u="sng">
                <a:solidFill>
                  <a:srgbClr val="009999"/>
                </a:solidFill>
                <a:uFillTx/>
                <a:latin typeface="Franklin Gothic Medium Cond"/>
                <a:hlinkClick r:id="rId4"/>
              </a:rPr>
              <a:t>www.youtube.com/watch?v</a:t>
            </a:r>
            <a:r>
              <a:rPr b="0" lang="en-US" sz="3100" spc="-1" strike="noStrike" u="sng">
                <a:solidFill>
                  <a:srgbClr val="009999"/>
                </a:solidFill>
                <a:uFillTx/>
                <a:latin typeface="Franklin Gothic Medium Cond"/>
                <a:hlinkClick r:id="rId5"/>
              </a:rPr>
              <a:t>=9n3hThfp0TI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Franklin Gothic Medium Cond"/>
              </a:rPr>
              <a:t>Фото Бабочек Грета Ото</a:t>
            </a:r>
            <a:br>
              <a:rPr sz="3100"/>
            </a:br>
            <a:r>
              <a:rPr b="0" lang="en-US" sz="3100" spc="-1" strike="noStrike" u="sng">
                <a:solidFill>
                  <a:srgbClr val="009999"/>
                </a:solidFill>
                <a:uFillTx/>
                <a:latin typeface="Franklin Gothic Medium Cond"/>
                <a:hlinkClick r:id="rId6"/>
              </a:rPr>
              <a:t>http://</a:t>
            </a:r>
            <a:r>
              <a:rPr b="0" lang="en-US" sz="3100" spc="-1" strike="noStrike" u="sng">
                <a:solidFill>
                  <a:srgbClr val="009999"/>
                </a:solidFill>
                <a:uFillTx/>
                <a:latin typeface="Franklin Gothic Medium Cond"/>
                <a:hlinkClick r:id="rId7"/>
              </a:rPr>
              <a:t>images.yandex.ru/yandsearch?text</a:t>
            </a:r>
            <a:r>
              <a:rPr b="0" lang="en-US" sz="3100" spc="-1" strike="noStrike" u="sng">
                <a:solidFill>
                  <a:srgbClr val="009999"/>
                </a:solidFill>
                <a:uFillTx/>
                <a:latin typeface="Franklin Gothic Medium Cond"/>
                <a:hlinkClick r:id="rId8"/>
              </a:rPr>
              <a:t>=%D0%B1%D0%B0%D0%B1%D0%BE%D1%87%D0%BA%D0%B0%20%D1%81%20%D0%BF%D1%80%D0%BE%D0%B7%D1%80%D0%B0%D1%87%D0%BD%D1%8B%D0%BC%D0%B8%20%D0%BA%D1%80%D1%8B%D0%BB%D1%8C%D1%8F%D0%BC%D0%B8&amp;stype=</a:t>
            </a:r>
            <a:r>
              <a:rPr b="0" lang="en-US" sz="3100" spc="-1" strike="noStrike" u="sng">
                <a:solidFill>
                  <a:srgbClr val="009999"/>
                </a:solidFill>
                <a:uFillTx/>
                <a:latin typeface="Franklin Gothic Medium Cond"/>
                <a:hlinkClick r:id="rId9"/>
              </a:rPr>
              <a:t>image&amp;lr</a:t>
            </a:r>
            <a:r>
              <a:rPr b="0" lang="en-US" sz="3100" spc="-1" strike="noStrike" u="sng">
                <a:solidFill>
                  <a:srgbClr val="009999"/>
                </a:solidFill>
                <a:uFillTx/>
                <a:latin typeface="Franklin Gothic Medium Cond"/>
                <a:hlinkClick r:id="rId10"/>
              </a:rPr>
              <a:t>=55&amp;noreask=1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4-02T14:53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